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778-C8B8-4AEB-B77C-0E28C938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424-6EA9-48CF-9876-F8E0F71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78B-7696-4961-B544-F3BA6656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C44-9483-497E-9C50-DEA1234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79E-FC5B-46A8-BCE6-8032350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19F-122B-44E7-A0E2-E2C58B5D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51B-0838-4178-97B7-3CEB3DD9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E39-6889-4B61-BD7F-955CF44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0D5-FE56-48AD-9F85-9BFAB11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CAA-4EA1-40BC-B6AE-989A5E3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471-1959-487D-8D39-2210231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EEA-DF3D-4583-B4B5-AD6EE7F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A5A-83A5-4AFE-ACA1-85350866D8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َسِيحاً جِئتَ نُو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تُلْقي الظُّلمَ عَنّ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َنْ شُعوبٍ كادِح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يَسودَ الحبُ ف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 ثبُتْنا مُخْلِص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نتَ يا ربَّ السَّم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ِئْتَنا لِلْمَجْدِ شَعْب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َاتَّشَحْنَا بالبَهاء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وْمَ جَئتَ الأرضَ رَبّا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اقْتَبلنا بالرَّج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سْمُكَ الصّافِي مَحَبّة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نْعَرَفْنا بالضِّي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سمِكَ الشعبُ الأم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15:04:27Z</dcterms:created>
  <dc:creator>Charbel Azar</dc:creator>
  <dc:description/>
  <dc:language>en-US</dc:language>
  <cp:lastModifiedBy>-</cp:lastModifiedBy>
  <dcterms:modified xsi:type="dcterms:W3CDTF">2002-12-29T07:40:30Z</dcterms:modified>
  <cp:revision>3</cp:revision>
  <dc:subject/>
  <dc:title>يا مَسِيحاً جِئتَ نُوراً كَيْ تُنِيرَ العَالَمِين جِئتَ حُبّاً جِئتَ صَفْحاً جَئتَ سَلْوَى الْبَائِسِين.</dc:title>
</cp:coreProperties>
</file>